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0693-08AE-46AE-987D-D2D3709109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BE73-7DCC-4D33-BBBA-07BD5E231C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ы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уга В. С. Соловьё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C38D-C148-475E-A737-B9A3266A1C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5291-A493-4BB9-A13B-F813D2F7BC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B554-1016-4A27-AC0F-D40EF99576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D65F-720A-473A-A496-3A88800C1D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85B2-842F-4C31-940F-D234BDDF74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B6DC-BA4B-40DF-A2BE-400782C39F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E5AD-7397-4EA0-B122-DA39B50DA7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DDAC-8AAD-4405-8F23-533627A64C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3B10-1371-48F3-8830-2308D76696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е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9671-12C0-488B-84BF-A31FAF48E0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 Трубецко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6620-6903-4208-B6F1-A3877A2031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ы круга В. С. Соловьё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 Лопатин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5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5DDE-169B-442B-AAB5-E2DF4ACC1E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абсолютного с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лигиозный материализ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позна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4D83-4930-4DA0-8F8A-52F126F112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AFF3-DB15-4D19-B1C1-5BD6828A59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. Лопатин (1855-1920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9880-F3D9-40A6-B592-351D83C080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 Лопати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едение в философскую систему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ы философски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ириту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номе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типы онт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в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ская система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ая субстанция (монада) как базисное онтологическое понят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сти как базисный онтологический принцип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учение о свободе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2C10-AAC0-481B-A1AE-744AD92948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 Трубецкой (1862-1905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2AC3-C236-4087-A7B2-BE796E452B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ё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11D3-8D33-44B8-9287-B56B011306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42CF-ABEC-4368-A48F-EC9868C91F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1357-0FED-4D7A-9A6C-7B0AACF88F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5156-BC96-4F06-8E64-48A61CD2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5E62-DED9-4D92-85DA-B1B85B6E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675E-3602-4239-9BC0-26DA1243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DB74-D341-4703-9F6C-9B6E381B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9DF4-E975-44B8-A5A0-41029889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3638-2E46-408A-B8B1-1A19497C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0134-1EDD-4D27-B425-6B94A21F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4E74-265D-4E9E-B71A-ABA3A3FA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3B8C-48B8-4E9C-B6B5-C2027322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EF89-7D7D-4E29-97FF-EEF1AEAE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FA0-5133-4472-9F3F-0BEBEC7A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BD46-CF30-429B-BB2A-E2F0E1EA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F332-74DD-4715-8191-BFCB3E7389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28760" y="2499840"/>
            <a:ext cx="82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ы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руга В. С. Соловьё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 rot="10800000">
            <a:off x="250920" y="161892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обще всем на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, что я познаю им и в нём объективн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сеобщ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я признаю истинным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 всех и за всех, не для себя только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актически я по поводу вс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ржу внутри себя собор со всеми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лько то для меня истинно, достовер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общим и безусловны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олжно быть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таковым для всех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общее согласие, возмож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огласие, которое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сматриваю в своём сознании, есть дл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еня безусловный внутренний критерий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142560" y="1618920"/>
            <a:ext cx="6729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Я могу ошибаться внутри себ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носительно всеобщего органическ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гласия – в сложных запутанных вопроса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том, что не для всех очевидно, о чё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щё не состоялось внешнего соглашен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я моя ошибка предполага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веренность в возможности общего соглас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этому каждый может меня обличи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оказать мне моё заблуждение на основани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признанного, –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того, что все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внутри меня признают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бы ни силил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заглушить общий голос, он непогрешим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 когда я сознаю, что имею его за себ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 смело отвечаю за все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719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431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143820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316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Эмпи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3098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цио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4316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липс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3098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олирова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409840" y="1798560"/>
            <a:ext cx="431784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ая робинзо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6189840" y="287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анти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6189840" y="521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аковость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телл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9716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ереходит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4"/>
          <p:cNvSpPr/>
          <p:nvPr/>
        </p:nvSpPr>
        <p:spPr>
          <a:xfrm>
            <a:off x="38498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утвержд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5"/>
          <p:cNvSpPr/>
          <p:nvPr/>
        </p:nvSpPr>
        <p:spPr>
          <a:xfrm>
            <a:off x="672948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ъясняет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щезначи-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4317840" y="50734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2590920" y="5505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овательно, сознани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ая функц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кого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088040" y="3562200"/>
            <a:ext cx="719280" cy="1258920"/>
          </a:xfrm>
          <a:custGeom>
            <a:avLst/>
            <a:gdLst>
              <a:gd name="textAreaLeft" fmla="*/ 96120 w 719280"/>
              <a:gd name="textAreaRight" fmla="*/ 623160 w 71928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332000" y="3562200"/>
            <a:ext cx="718920" cy="1258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4749840" y="2338560"/>
            <a:ext cx="718920" cy="1258560"/>
          </a:xfrm>
          <a:custGeom>
            <a:avLst/>
            <a:gdLst>
              <a:gd name="textAreaLeft" fmla="*/ 96120 w 718920"/>
              <a:gd name="textAreaRight" fmla="*/ 622800 w 71892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3670200" y="2338560"/>
            <a:ext cx="719280" cy="1258560"/>
          </a:xfrm>
          <a:custGeom>
            <a:avLst/>
            <a:gdLst>
              <a:gd name="textAreaLeft" fmla="*/ 96120 w 719280"/>
              <a:gd name="textAreaRight" fmla="*/ 623160 w 71928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611280" y="2841480"/>
            <a:ext cx="3058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не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гу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ч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5468760" y="2841480"/>
            <a:ext cx="30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трактно-обще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ойств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ногих инди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409840" y="16192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еловеческое сознание н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адлежность индиви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2050920" y="4065480"/>
            <a:ext cx="5038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ичное, ограниченное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ет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е, коллективное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 rot="10800000">
            <a:off x="142920" y="1620360"/>
            <a:ext cx="694512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нание человека начин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чувственного опыта, показания котор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гда частны и единичны; от эт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учаев единичный субъект лично, сам по себ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имел бы ни психологической возможн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 логического права перейти к чему-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общему, универсальному и необходимому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в действительности это делают все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огически совершенно непонятно, каки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ом отдельный индивид может зн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безусловной всеобщей достоверностью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бы то ни было: своё собстве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ование, бытие внешнего мир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есконечного времени и простран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 rot="10800000">
            <a:off x="250920" y="162036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месте с тем вера каждого человек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еальное существование мира и всех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колебима и вселенски истинна. 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же уполномочивает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средственно признав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объективность? Что свидетельству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нас непосредственно об этом реально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сеобщем существовании вещей 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универсальных свойств и качеств?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 сознани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котором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ринимаю вселенское соглас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 rot="10800000">
            <a:off x="431640" y="1798200"/>
            <a:ext cx="629784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итивность опыт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осприятие самобыт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зависимой от нас реаль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озможная логичность 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ют коренную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енную соборность сознан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 логические функц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ные на позн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го и обще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вышали бы компетенц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уальной лич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ли бы она не заключала в себ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личного начал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 rot="10800000">
            <a:off x="142560" y="1474560"/>
            <a:ext cx="6910200" cy="5146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ждое слово наше доказывает фа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ого 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едполагая е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слова никогда не мыслит человек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олько в форме сло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ь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 обобщается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ов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твлекаем, образуем, определя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гические универсальные понятия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ми же обособляем и закрепля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уализируем наши представлен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мест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ово есть воплощение собор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не было бы слов,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были непонятны и невнятны для друг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незачем и не с кем было говорит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о предполагает органи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ость взаимного понимания, родов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сихологическое единство; и вместе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полагает говорящих и внимающих люд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е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Трубецко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138560" y="3057480"/>
            <a:ext cx="48578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осозерцание Вл. Соловьё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мира в древнерусской иконопис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мозрение в краск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ческие предположения по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Трубецкой Е (1)"/>
          <p:cNvPicPr/>
          <p:nvPr/>
        </p:nvPicPr>
        <p:blipFill>
          <a:blip r:embed="rId1"/>
          <a:stretch/>
        </p:blipFill>
        <p:spPr>
          <a:xfrm>
            <a:off x="466560" y="1798560"/>
            <a:ext cx="338004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8" name="Text Box 6"/>
          <p:cNvSpPr/>
          <p:nvPr/>
        </p:nvSpPr>
        <p:spPr>
          <a:xfrm>
            <a:off x="4894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ы круга В. С. Соловьё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400" y="1798200"/>
            <a:ext cx="32382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. Лопат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55-19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Трубецкой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Лопатин (3)"/>
          <p:cNvPicPr/>
          <p:nvPr/>
        </p:nvPicPr>
        <p:blipFill>
          <a:blip r:embed="rId1"/>
          <a:stretch/>
        </p:blipFill>
        <p:spPr>
          <a:xfrm>
            <a:off x="3778200" y="1619280"/>
            <a:ext cx="1971720" cy="252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Picture 5" descr="Трубецкой С (2)"/>
          <p:cNvPicPr/>
          <p:nvPr/>
        </p:nvPicPr>
        <p:blipFill>
          <a:blip r:embed="rId2"/>
          <a:stretch/>
        </p:blipFill>
        <p:spPr>
          <a:xfrm>
            <a:off x="5307120" y="2787480"/>
            <a:ext cx="2076480" cy="25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6" descr="Трубецкой Е (1)"/>
          <p:cNvPicPr/>
          <p:nvPr/>
        </p:nvPicPr>
        <p:blipFill>
          <a:blip r:embed="rId3"/>
          <a:stretch/>
        </p:blipFill>
        <p:spPr>
          <a:xfrm>
            <a:off x="6837480" y="3957480"/>
            <a:ext cx="1971720" cy="25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абсолютного с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лигиозный материализ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позна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. Лопатин (1855-1920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Лопатин (3)"/>
          <p:cNvPicPr/>
          <p:nvPr/>
        </p:nvPicPr>
        <p:blipFill>
          <a:blip r:embed="rId1"/>
          <a:stretch/>
        </p:blipFill>
        <p:spPr>
          <a:xfrm>
            <a:off x="539640" y="1798560"/>
            <a:ext cx="338004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1" name="Rectangle 5"/>
          <p:cNvSpPr/>
          <p:nvPr/>
        </p:nvSpPr>
        <p:spPr>
          <a:xfrm>
            <a:off x="4317840" y="3057480"/>
            <a:ext cx="45705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е задачи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 2-х ч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ласть умозрительных вопрос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й связи как основа умозрительного знания действи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1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786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 Лопати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73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едение в философскую систему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ы философски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ириту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номе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типы онт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в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ская система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ая субстанция (монада) как базисное онтологическое понят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сти как базисный онтологический принцип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учение о свободе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Трубецкой (1862-1905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4317840" y="3057480"/>
            <a:ext cx="44992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в Древней Грец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природе человеческого по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9-1891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ания идеализм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Логосе в его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Трубецкой С (1)"/>
          <p:cNvPicPr/>
          <p:nvPr/>
        </p:nvPicPr>
        <p:blipFill>
          <a:blip r:embed="rId1"/>
          <a:stretch/>
        </p:blipFill>
        <p:spPr>
          <a:xfrm>
            <a:off x="466560" y="1798560"/>
            <a:ext cx="362772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4894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ё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3346560" y="3057480"/>
            <a:ext cx="50328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3273480" y="4678200"/>
            <a:ext cx="64764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358920" y="5145120"/>
            <a:ext cx="647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е восприят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опыт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рывает нам ми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719280" y="3525840"/>
            <a:ext cx="575784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стигает идеи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м подчинён этот мир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1079640" y="1906560"/>
            <a:ext cx="503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онкретное единство живых объектов)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ваи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6981840" y="503712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"/>
          <p:cNvSpPr/>
          <p:nvPr/>
        </p:nvSpPr>
        <p:spPr>
          <a:xfrm>
            <a:off x="6908760" y="4954680"/>
            <a:ext cx="733320" cy="1295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1496880" y="4954680"/>
            <a:ext cx="733680" cy="1295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492912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347508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1690560" y="2949480"/>
            <a:ext cx="2698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диничные вещи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редст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4749840" y="2949480"/>
            <a:ext cx="2698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рационал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бщие начала, идеи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нципы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531720" y="1935000"/>
            <a:ext cx="1158840" cy="1917720"/>
          </a:xfrm>
          <a:custGeom>
            <a:avLst/>
            <a:gdLst>
              <a:gd name="textAreaLeft" fmla="*/ 155160 w 1158840"/>
              <a:gd name="textAreaRight" fmla="*/ 1003680 w 1158840"/>
              <a:gd name="textAreaTop" fmla="*/ 335520 h 1917720"/>
              <a:gd name="textAreaBottom" fmla="*/ 1390320 h 191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7448400" y="1935000"/>
            <a:ext cx="1101960" cy="192276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36240 h 1922760"/>
              <a:gd name="textAreaBottom" fmla="*/ 1393920 h 192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8416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ответственно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ков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566424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рационалист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верс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ое нач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3"/>
          <p:cNvSpPr/>
          <p:nvPr/>
        </p:nvSpPr>
        <p:spPr>
          <a:xfrm>
            <a:off x="1690560" y="154620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 всех различиях между ними дв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ных направления западной гносеологии: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эмпиризм и рационализм –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ходятся между собой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ивиз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4"/>
          <p:cNvSpPr/>
          <p:nvPr/>
        </p:nvSpPr>
        <p:spPr>
          <a:xfrm>
            <a:off x="2230560" y="539748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тем, сознание не может бы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езличным, ни единоличны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более, чем лично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собор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104292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первых,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ность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навательного акта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ключаетс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тношении ко вне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му предмету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«трансцендировани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467820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вторы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ий а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тендует на т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бы иметь обще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аже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обязате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11280" y="2230560"/>
            <a:ext cx="1079280" cy="180000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7448400" y="2230560"/>
            <a:ext cx="1079640" cy="180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1690560" y="179856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познание выводит нас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 пределы нашей индивидуальности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двух отношениях: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08:38:31Z</dcterms:created>
  <dc:creator>Николай Бирюков / Nikolai Biryukov</dc:creator>
  <dc:description>Версия марта 2006 г.</dc:description>
  <dc:language>en-US</dc:language>
  <cp:lastModifiedBy>LEGION</cp:lastModifiedBy>
  <dcterms:modified xsi:type="dcterms:W3CDTF">2014-11-11T12:37:41Z</dcterms:modified>
  <cp:revision>21</cp:revision>
  <dc:subject>История русской философии - Лекция 8</dc:subject>
  <dc:title>Философы круга В. С. Соловьёва</dc:title>
</cp:coreProperties>
</file>